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23B-07B4-4C75-9E43-B9AF1AC4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43B-4B22-4E33-90FA-ABEB287B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48CA-CD04-4548-AA5E-B43C5FB2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734-49EA-407C-B393-B26EE111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26E-4746-440C-B3F7-6D93C578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6215-C231-4EF9-AD87-8A5E33AD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A82-60A3-471D-ACCC-91F0B0B6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378-ED3E-437B-A0B8-F7A0B789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732-5B82-471B-8977-CECF531F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916-B847-424A-85A9-E7F9D665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5AC-9543-4E75-9786-16E22C21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F348-B788-4FF2-904B-5F486367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3ECE-0269-4C2B-91CC-242224BE0C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f/KatkaLuc_Stephansdo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1/Alzbeta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DĚTI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rel, Jindřich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ové Karla IV. a Alžběty Pomořans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Zemřeli brzy po naroz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Karel *137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Jindřich *1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rkéta ,, mladší " Lucembur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ou norimberského purkrabího Jana III. z Hohenzollern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v necelých čtyřiceti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herská a chorvatská králov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ňatek s uherským následníkem Ludvík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během morové epidemi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Kateři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Blanky z Valo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Jméno dostala podle oblíbené Karlovy světice, na den sv. Kateřiny svedl bitvu u San Felice 25. listopadu roku 133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rakouská, štýrská, korutanská a kraňská vévodkyně, tyrolská hraběnka a braniborská markraběnk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ovdána za rakouského vévodu Rudolfa IV., poté za Otu V. Bavorskéh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akonec opět ovdově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404640"/>
            <a:ext cx="1116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Syn Karla IV. a Anny Falck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Měl si vzít Annu Svídnick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Václav však umírá ve dvou lete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entury Gothic"/>
              </a:rPr>
              <a:t>Annu Svídnickou si tak vezme sám Karel IV.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Česká princezna, vévodkyně rakouská, štýrská, korutanská a kraňsk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 Karla IV. a Anny Svídnic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První manželka Habsburka Albrechta II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Umírá bezdětná v 15 lete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áz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13720" y="3860640"/>
            <a:ext cx="23047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Václav IV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* 1361 - 1419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Český (1363) a římský král (137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yn Karla IV. a Anny Svídnické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Měl dvě manželky Johannu a Žofii Bavorskou, přesto nezplodil dědice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Záliba v módním oblékání výstředních barev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Century Gothic"/>
              </a:rPr>
              <a:t>Slabý král, samotář a vášnivý lovec, holdoval alkoholu - přídomek „Líný“ nebo také „Opilec“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Obrázek 3" descr=""/>
          <p:cNvPicPr/>
          <p:nvPr/>
        </p:nvPicPr>
        <p:blipFill>
          <a:blip r:embed="rId1"/>
          <a:stretch/>
        </p:blipFill>
        <p:spPr>
          <a:xfrm>
            <a:off x="7502400" y="246240"/>
            <a:ext cx="16416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Lucembur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cera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na „Česká“ („Good Queen Ann“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Anglická královna, krásná a laskavá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Manželka angl. krále Richarda II. Plantagene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Neměla dět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Díky ní zesílily vzájemné kontakty mezi Anglií a Českým království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a na m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Obrázek 3" descr=""/>
          <p:cNvPicPr/>
          <p:nvPr/>
        </p:nvPicPr>
        <p:blipFill>
          <a:blip r:embed="rId1"/>
          <a:stretch/>
        </p:blipFill>
        <p:spPr>
          <a:xfrm>
            <a:off x="7740720" y="2637000"/>
            <a:ext cx="13939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Zikmund Lucemburs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elmi vzdělaný, mluvil 7 jazyky, velmi společenský a měl zálibu v rytířských turnají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V Čechách neoblíbený kvůli Janu Hus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Liška ryšavá“- kvůli zrzavým vlasům a řádu „Draka“ (odměňoval své věrné stoupence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Hlavním cílem byla reforma církve a odstranění papežského schizmat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e, jen dcera Alžběta Lucemburská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Obrázek 3" descr=""/>
          <p:cNvPicPr/>
          <p:nvPr/>
        </p:nvPicPr>
        <p:blipFill>
          <a:blip r:embed="rId1"/>
          <a:stretch/>
        </p:blipFill>
        <p:spPr>
          <a:xfrm>
            <a:off x="7524720" y="1268280"/>
            <a:ext cx="14400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Jan Zhořeleck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Syn Karla IV. a Alžběty Pomořansk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Od otce dostal jako samostatné vévodství Zhořele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Century Gothic"/>
              </a:rPr>
              <a:t>Pomáhal nevlastnímu bratrovi Václavu IV. proti šlechtě i proti vlastnímu bratrovi Zikmundov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Zemřel nečekaně v klášteře ve spánk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yl ženatý s Kateřinou Švédsko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entury Gothic"/>
              </a:rPr>
              <a:t>Bez dědiců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56:45Z</dcterms:modified>
  <cp:revision>42</cp:revision>
  <dc:subject/>
  <dc:title>Prezentace aplikace PowerPoint</dc:title>
</cp:coreProperties>
</file>