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BE58-DDB4-42F3-83F4-09E37701B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161A-FEB7-48EF-9922-6D375C7A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9508-8C5B-4E2D-84D4-B996332BC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DA3C-8D53-47AA-8E13-25E5163A8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07A3-7A4A-496A-8B5B-4F6310B0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C84B-AD18-4475-BC70-1B5FFC30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F96C-CED3-4EB3-BF3B-57016968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1192-B087-4A0F-9584-B8F9C3DB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1281-8978-439C-9815-6AC26432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D368-74F3-4359-BA8D-2C7AF5FA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4B79-6E88-4B92-99FC-10D306E8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6139-C63A-4A6F-8C6F-F46C41BD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542F-C382-47D3-A13C-118A71C5961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thumb/4/43/Busta_Blanka_z_Valois.jpg/1024px-Busta_Blanka_z_Valois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3328920"/>
            <a:ext cx="8497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MANŽELKY KARLA IV.</a:t>
            </a:r>
            <a:br>
              <a:rPr sz="4800"/>
            </a:br>
            <a:r>
              <a:rPr b="1" lang="cs-CZ" sz="3500" spc="-1" strike="noStrike">
                <a:solidFill>
                  <a:srgbClr val="000000"/>
                </a:solidFill>
                <a:latin typeface="Century Gothic"/>
              </a:rPr>
              <a:t>ODKAZ OTCE VLASTI </a:t>
            </a:r>
            <a:br>
              <a:rPr sz="4800"/>
            </a:b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Mgr. Pavel Vaníče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73264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98989"/>
                </a:solidFill>
                <a:latin typeface="Calibri"/>
              </a:rPr>
              <a:t>Materiál je součástí projektu „Odkaz Otce vlasti“ a je prostřednictvím „Programu na podporu činnosti nestátních neziskových organizací působících v oblasti předškolního, základního a středního vzdělávání v roce 2016“ spolufinancován MŠM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PC01\Desktop\mej\2012 2013\propagace\new logo\LOGO jpg.jpg"/>
          <p:cNvPicPr/>
          <p:nvPr/>
        </p:nvPicPr>
        <p:blipFill>
          <a:blip r:embed="rId1"/>
          <a:stretch/>
        </p:blipFill>
        <p:spPr>
          <a:xfrm>
            <a:off x="395280" y="260280"/>
            <a:ext cx="1865160" cy="2070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www.nicm.cz/files/user-126/msmt_logo_0.jpg"/>
          <p:cNvPicPr/>
          <p:nvPr/>
        </p:nvPicPr>
        <p:blipFill>
          <a:blip r:embed="rId2"/>
          <a:stretch/>
        </p:blipFill>
        <p:spPr>
          <a:xfrm>
            <a:off x="4284720" y="333360"/>
            <a:ext cx="43257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Markéta Blanka z Valo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1. manželka Karla IV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Dcera Karla z Valois a sestra budoucího krále Filipa VI. Z Valois (králem Francie 1328 - 1350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Česká a římskoněmecká královna a moravská markraběnk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 době sňatku bylo oběma 7 l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Po svatbě byli odděleni, setkávají se v 15 letech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S Karlem měli hluboký citový vztah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emřela po krátké nemoci ve věku 32 l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Je pochována v chrámu sv. Víta na Pražském hradě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Zástupný symbol pro obsah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836640"/>
            <a:ext cx="82072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Anna Falc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2. manželka Karla IV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Česká a římská královn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Jejím prastrýcem byl Jindřich Korutanský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získal území Horního Falce, výborný politický tah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rál neměl o Annu velký záje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Umírá ve 24 letech, pravděpodobně žalem po synovi Václavovi (zemřel ve dvou letech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Další verze její smrti byl pád z koně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Děti: Václav (zemřel ve věku necelých dvou let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Zástupný symbol pro obsah 3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263000" cy="57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Anna Svídnic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50560" y="1600200"/>
            <a:ext cx="8569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3. manželka Karla IV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Česká královna, římská královna a římská císařovn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„</a:t>
            </a:r>
            <a:r>
              <a:rPr b="1" lang="cs-CZ" sz="2500" spc="-1" strike="noStrike">
                <a:solidFill>
                  <a:srgbClr val="000000"/>
                </a:solidFill>
                <a:latin typeface="Century Gothic"/>
              </a:rPr>
              <a:t>Nejkrásnější</a:t>
            </a: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 žena v Evropě“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Původní snoubenka Karlova zemřelého syn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 době sňatku jí bylo teprve 13 let (Karlovi 37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Zemřela při porodu i s novorozencem ve věku 23 l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o ní mluvil jako o „nejdražší choti“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Po její smrti také velmi truchlil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Děti: Alžběta, Václav IV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Zástupný symbol pro obsah 3" descr=""/>
          <p:cNvPicPr/>
          <p:nvPr/>
        </p:nvPicPr>
        <p:blipFill>
          <a:blip r:embed="rId1"/>
          <a:stretch/>
        </p:blipFill>
        <p:spPr>
          <a:xfrm>
            <a:off x="2340000" y="549360"/>
            <a:ext cx="4303800" cy="58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entury Gothic"/>
              </a:rPr>
              <a:t>Alžběta Pomořansk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599840"/>
            <a:ext cx="8785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4. manželka Karla IV., též známá jako Elišk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nučka polského krále Kazimíra Velikého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Česká královna a římská císařovn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V době sňatku jí bylo 16 let (Karlovi už 47!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Rázná, neústupná a sebevědomá žena, vynikala velkou fyzickou sílou (lámala podkovy a ohýbala železo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Karel se s ní oženil z diplomatických důvodů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S Karlem měli harmonické manželství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Přežila Karla o 15 l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Byla pochována v katedrále svatého Víta po boku Karl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Century Gothic"/>
              </a:rPr>
              <a:t>Děti: Anna (anglická královna), Zikmund, Jan Zhoř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Zástupný symbol pro obsah 3" descr=""/>
          <p:cNvPicPr/>
          <p:nvPr/>
        </p:nvPicPr>
        <p:blipFill>
          <a:blip r:embed="rId1"/>
          <a:stretch/>
        </p:blipFill>
        <p:spPr>
          <a:xfrm>
            <a:off x="2484360" y="404640"/>
            <a:ext cx="41752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8:41:02Z</dcterms:created>
  <dc:creator>PC01</dc:creator>
  <dc:description/>
  <dc:language>en-US</dc:language>
  <cp:lastModifiedBy>vanicek</cp:lastModifiedBy>
  <dcterms:modified xsi:type="dcterms:W3CDTF">2016-12-14T21:18:39Z</dcterms:modified>
  <cp:revision>35</cp:revision>
  <dc:subject/>
  <dc:title>Prezentace aplikace PowerPoint</dc:title>
</cp:coreProperties>
</file>