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8FC-8B94-49AD-833A-B5E211361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stěnná malba, kaple sv. Kateřiny na Karlštejně (kolem 135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50E6-3007-4C8F-A5A1-1D13A973C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A70-26AF-424C-940B-0215A71F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C5D-FC26-47B1-9915-EA718B1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D0B-5BD2-4ECA-826E-AC64265E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DA3-3C2A-47CD-877E-87BDC2C1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379B-DD4D-40E3-AB4C-EFAD28FD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ED2-AE5B-424A-9649-95CC0EC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2F8-5273-46B0-91D1-5BE0CCDA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879-C7FA-4C66-867B-E03DE2BD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E790-F745-42A0-81F8-D73C3324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517-2EE1-4179-BF00-71F1508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EB8B-E561-4098-ACD4-90A47F07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CDF-B87D-4204-98F3-53AF216D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831C-3FD0-43B8-8984-BCB3851097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img.radio.cz/pictures/historie/karel_iv_vaclav_iv_francie3x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b/bd/Karolus_Moravius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8/87/Karl_IV_Blanca_Valoi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thumb/4/47/Busta_Karel_IV.jpg/615px-Busta_Karel_IV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upload.wikimedia.org/wikipedia/commons/a/ab/Karl_Fourth_Bohemia_Anna_Schweidnitz.jpe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1/16/Charles_IV-John_Ocko_votive_picture-fragment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c/c7/Kaja4Gelnhausenkodex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6/Karolus_rim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328920"/>
            <a:ext cx="8497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Century Gothic"/>
              </a:rPr>
              <a:t>VYOBRAZENÍ KARLA IV.  </a:t>
            </a:r>
            <a:br>
              <a:rPr sz="4800"/>
            </a:br>
            <a:r>
              <a:rPr b="1" lang="cs-CZ" sz="3500" spc="-1" strike="noStrike">
                <a:solidFill>
                  <a:srgbClr val="000000"/>
                </a:solidFill>
                <a:latin typeface="Century Gothic"/>
              </a:rPr>
              <a:t>ODKAZ OTCE VLASTI </a:t>
            </a:r>
            <a:br>
              <a:rPr sz="4800"/>
            </a:br>
            <a:r>
              <a:rPr b="1" lang="cs-CZ" sz="2200" spc="-1" strike="noStrike">
                <a:solidFill>
                  <a:srgbClr val="000000"/>
                </a:solidFill>
                <a:latin typeface="Century Gothic"/>
              </a:rPr>
              <a:t>Mgr. Pavel Vaníče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573264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98989"/>
                </a:solidFill>
                <a:latin typeface="Calibri"/>
              </a:rPr>
              <a:t>Materiál je součástí projektu „Odkaz Otce vlasti“ a je prostřednictvím „Programu na podporu činnosti nestátních neziskových organizací působících v oblasti předškolního, základního a středního vzdělávání v roce 2016“ spolufinancován MŠM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PC01\Desktop\mej\2012 2013\propagace\new logo\LOGO jpg.jpg"/>
          <p:cNvPicPr/>
          <p:nvPr/>
        </p:nvPicPr>
        <p:blipFill>
          <a:blip r:embed="rId1"/>
          <a:stretch/>
        </p:blipFill>
        <p:spPr>
          <a:xfrm>
            <a:off x="395280" y="260280"/>
            <a:ext cx="1865160" cy="207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nicm.cz/files/user-126/msmt_logo_0.jpg"/>
          <p:cNvPicPr/>
          <p:nvPr/>
        </p:nvPicPr>
        <p:blipFill>
          <a:blip r:embed="rId2"/>
          <a:stretch/>
        </p:blipFill>
        <p:spPr>
          <a:xfrm>
            <a:off x="4284720" y="333360"/>
            <a:ext cx="43257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VÁCLAV IV., KAREL IV. A JOŠ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s://upload.wikimedia.org/wikipedia/commons/thumb/9/99/Wenceslaus_IV%2C_Charles_IV%2C_Jobst_of_Moravia.jpg/800px-Wenceslaus_IV%2C_Charles_IV%2C_Jobst_of_Moravia.jpg"/>
          <p:cNvPicPr/>
          <p:nvPr/>
        </p:nvPicPr>
        <p:blipFill>
          <a:blip r:embed="rId2"/>
          <a:stretch/>
        </p:blipFill>
        <p:spPr>
          <a:xfrm>
            <a:off x="1332000" y="1598760"/>
            <a:ext cx="64800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LOVA CESTA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Výsledek obrázku pro OBRAZ KARLA IV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1773360"/>
            <a:ext cx="84042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NA CESTĚ DO FRAN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Karel IV se synem Václavem na cest&amp;ecaron; do Francie"/>
          <p:cNvPicPr/>
          <p:nvPr/>
        </p:nvPicPr>
        <p:blipFill>
          <a:blip r:embed="rId2"/>
          <a:stretch/>
        </p:blipFill>
        <p:spPr>
          <a:xfrm>
            <a:off x="108000" y="2428920"/>
            <a:ext cx="2735280" cy="34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Karel IV se synem Václavem na cest&amp;ecaron; do Francie"/>
          <p:cNvPicPr/>
          <p:nvPr/>
        </p:nvPicPr>
        <p:blipFill>
          <a:blip r:embed="rId3"/>
          <a:stretch/>
        </p:blipFill>
        <p:spPr>
          <a:xfrm>
            <a:off x="6041880" y="2432160"/>
            <a:ext cx="3102120" cy="3384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Karel IV se synem Václavem na cest&amp;ecaron; do Francie"/>
          <p:cNvPicPr/>
          <p:nvPr/>
        </p:nvPicPr>
        <p:blipFill>
          <a:blip r:embed="rId4"/>
          <a:stretch/>
        </p:blipFill>
        <p:spPr>
          <a:xfrm>
            <a:off x="2987640" y="2557440"/>
            <a:ext cx="2978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CÍSAŘ KAREL VJÍŽDÍ DO CAMBR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s://upload.wikimedia.org/wikipedia/commons/1/10/Entr%C3%A9e_de_l_empereur_Charles_IV_%C3%A0_Cambrai.jpg"/>
          <p:cNvPicPr/>
          <p:nvPr/>
        </p:nvPicPr>
        <p:blipFill>
          <a:blip r:embed="rId2"/>
          <a:stretch/>
        </p:blipFill>
        <p:spPr>
          <a:xfrm>
            <a:off x="2411280" y="1484280"/>
            <a:ext cx="41054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CÍSAŘ KAREL IV. A FRANCOUZSKÝ KRÁL KAREL V. VE FRANCII - 137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Zástupný symbol pro obsah 3" descr=""/>
          <p:cNvPicPr/>
          <p:nvPr/>
        </p:nvPicPr>
        <p:blipFill>
          <a:blip r:embed="rId1"/>
          <a:stretch/>
        </p:blipFill>
        <p:spPr>
          <a:xfrm>
            <a:off x="2776680" y="1600200"/>
            <a:ext cx="3590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JAKO MARKRAB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600200"/>
            <a:ext cx="1486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ŽENOU BLANK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1600" y="1600200"/>
            <a:ext cx="352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LOVA BUSTA V TRIFORIU KATEDRÁL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55920" y="1965240"/>
            <a:ext cx="391644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AREL IV. S MANŽELKOU ANNOU POZDVIHUJÍ OSTATKOVÝ KŘÍ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prazskamincovna.cz/i/F640_Karel_IV_s_manzelkou_B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1685880"/>
            <a:ext cx="63594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NA VOTIVNÍM OBRAZU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JANA OČKA Y VLAŠI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700280"/>
            <a:ext cx="320868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Zástupný symbol pro obsah 5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2367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OSTATKOVÁ SCÉN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MALBA NA KARLŠTEJ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Ostatková scéna"/>
          <p:cNvPicPr/>
          <p:nvPr/>
        </p:nvPicPr>
        <p:blipFill>
          <a:blip r:embed="rId2"/>
          <a:stretch/>
        </p:blipFill>
        <p:spPr>
          <a:xfrm>
            <a:off x="12600" y="1708200"/>
            <a:ext cx="91314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ŘÍMSKÝ CÍS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628640"/>
            <a:ext cx="323532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GELNHAUSENSKÝ KODEX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KAREL JAKO ČESKÝ A ŘÍMSKÝ KRÁ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ástupný symbol pro obsah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71960" y="1600200"/>
            <a:ext cx="2800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4T08:41:02Z</dcterms:created>
  <dc:creator>PC01</dc:creator>
  <dc:description/>
  <dc:language>en-US</dc:language>
  <cp:lastModifiedBy>vanicek</cp:lastModifiedBy>
  <dcterms:modified xsi:type="dcterms:W3CDTF">2016-12-14T19:49:36Z</dcterms:modified>
  <cp:revision>34</cp:revision>
  <dc:subject/>
  <dc:title>Prezentace aplikace PowerPoint</dc:title>
</cp:coreProperties>
</file>