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0CC-6ABE-4A55-A346-716666D49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B2BC-EF9C-46EA-B94B-13114893535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A44-BACA-4351-89BB-E33CEC5A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C963-7998-427F-88BB-F0B61F06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29E-DADB-4772-A060-B07ABD6D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6D8-285C-4389-93A3-9BE1D749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7A7-C6D5-4FE9-BA86-2CD428FC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EE3-C542-4C4F-A740-2138D300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79C-B6E8-444D-8379-C2B76EF3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681-4133-4B0A-828A-19E811D0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55F-E3E7-4FD4-81D3-20E24467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2FFB-D9C3-4910-8319-57B62C1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D92-81B1-485E-AD89-160CC788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35E-A5CF-49CB-AB29-BFE2E986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AF81-12D5-445E-BDC0-6F83BC5E98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UŽ MNOHA TVÁŘÍ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LITER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Zástupný symbol pro obsah 4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706920" cy="24238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IV. napsal latinsky svůj životopis - Vita Carol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e spisu dává také rady budoucím vladařům a pokolení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epsal úvahy, jak se má chovat správný křesťan, zejména, je-li panovník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tvořil i legendu o svatém Václav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DIPLO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ástupný symbol pro obsah 4" descr=""/>
          <p:cNvPicPr/>
          <p:nvPr/>
        </p:nvPicPr>
        <p:blipFill>
          <a:blip r:embed="rId1"/>
          <a:stretch/>
        </p:blipFill>
        <p:spPr>
          <a:xfrm>
            <a:off x="966960" y="1957320"/>
            <a:ext cx="3019320" cy="3810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ěhem svého života a vlády se Karel snažil řešit problémy diplomatickou cesto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Této Karlovy skvělé vlastnosti si všimli už jeho současníc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když bylo potřeba, dokázal zařinčet i zbraněmi a použít meče či nátl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CESTOV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ástupný symbol pro obsah 4" descr=""/>
          <p:cNvPicPr/>
          <p:nvPr/>
        </p:nvPicPr>
        <p:blipFill>
          <a:blip r:embed="rId1"/>
          <a:stretch/>
        </p:blipFill>
        <p:spPr>
          <a:xfrm>
            <a:off x="681120" y="1600200"/>
            <a:ext cx="3591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již od mládí trávil mnoho času v sedle doprovázen družinou nebo dvorem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vštívil většinu evropských zemí a zanechal tam svoji stop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vakrát byl v Řím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kušenosti získané v zahraničí přenášel do našich zem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ovéPole 5"/>
          <p:cNvSpPr/>
          <p:nvPr/>
        </p:nvSpPr>
        <p:spPr>
          <a:xfrm>
            <a:off x="611280" y="62704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NA NÁVŠTĚVĚ VE FRANC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LAD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/>
          <p:cNvPicPr/>
          <p:nvPr/>
        </p:nvPicPr>
        <p:blipFill>
          <a:blip r:embed="rId1"/>
          <a:stretch/>
        </p:blipFill>
        <p:spPr>
          <a:xfrm>
            <a:off x="1733400" y="1600200"/>
            <a:ext cx="148608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427640" y="1600200"/>
            <a:ext cx="446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prožíval bouřlivé mládí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Itálii si užíval života plnými douš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Ale jak sám píše, varován ve snu příhodou hraběte z Vienne (přišel o úd), vnitřně  se obrátil a opustil „bohémský“ přístup k život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RYTÍ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1" descr=""/>
          <p:cNvPicPr/>
          <p:nvPr/>
        </p:nvPicPr>
        <p:blipFill>
          <a:blip r:embed="rId1"/>
          <a:stretch/>
        </p:blipFill>
        <p:spPr>
          <a:xfrm>
            <a:off x="457200" y="2155680"/>
            <a:ext cx="4038480" cy="3414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 rytířským otcem Janem rozhodně nezaosta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16 letech svedl první vítěznou bitvu u San Felice, kde byl pasován i na rytíř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také milovníkem rytířských turnajů, při jednom z nich se zřejmě vážně zran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otcem bojoval u Kresčak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INTELEKTUÁ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mládí byl vychováván ve Franci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ěl výjimečné vzdělání na tehdejší dobu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ěl číst i psá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Mluvil pěti jazyky: česky, francouzsky, latinsky, italsky, německy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aložil v Praze vysoké učen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BOŽNÝ ČLOVĚ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/>
          <p:cNvPicPr/>
          <p:nvPr/>
        </p:nvPicPr>
        <p:blipFill>
          <a:blip r:embed="rId1"/>
          <a:stretch/>
        </p:blipFill>
        <p:spPr>
          <a:xfrm>
            <a:off x="1008000" y="1440000"/>
            <a:ext cx="2087640" cy="294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byl hluboce věřící člověk a svoji vládu provázal s vírou a zbožnost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 ochráncem círk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polupracoval s papež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tal se vášnivým sběratelem ostatků svatý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www.prazskamincovna.cz/i/F640_Karel_IV_s_manzelkou_B.jpg"/>
          <p:cNvPicPr/>
          <p:nvPr/>
        </p:nvPicPr>
        <p:blipFill>
          <a:blip r:embed="rId2"/>
          <a:stretch/>
        </p:blipFill>
        <p:spPr>
          <a:xfrm>
            <a:off x="549360" y="4573440"/>
            <a:ext cx="302400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AKLADAT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ástupný symbol pro obsah 4" descr=""/>
          <p:cNvPicPr/>
          <p:nvPr/>
        </p:nvPicPr>
        <p:blipFill>
          <a:blip r:embed="rId1"/>
          <a:stretch/>
        </p:blipFill>
        <p:spPr>
          <a:xfrm>
            <a:off x="198360" y="1484280"/>
            <a:ext cx="3456000" cy="2305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aložil hrad Karlštejn, Nové Město pražské, klášter Na Slovanech, Kamenný most, vysoké učení, Hladovou zeď, lázně, mnoho kostelů a hra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5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168720" cy="280692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8" descr=""/>
          <p:cNvPicPr/>
          <p:nvPr/>
        </p:nvPicPr>
        <p:blipFill>
          <a:blip r:embed="rId3"/>
          <a:stretch/>
        </p:blipFill>
        <p:spPr>
          <a:xfrm>
            <a:off x="3492360" y="501336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9" descr=""/>
          <p:cNvPicPr/>
          <p:nvPr/>
        </p:nvPicPr>
        <p:blipFill>
          <a:blip r:embed="rId4"/>
          <a:stretch/>
        </p:blipFill>
        <p:spPr>
          <a:xfrm>
            <a:off x="6084720" y="5070600"/>
            <a:ext cx="2953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HOSPODÁ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ástupný symbol pro obsah 4" descr=""/>
          <p:cNvPicPr/>
          <p:nvPr/>
        </p:nvPicPr>
        <p:blipFill>
          <a:blip r:embed="rId1"/>
          <a:stretch/>
        </p:blipFill>
        <p:spPr>
          <a:xfrm>
            <a:off x="933480" y="1600200"/>
            <a:ext cx="3085920" cy="4525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Karel se staral o bezpečnost v zem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Podporoval města, obchod a rozvoj komunikac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entury Gothic"/>
              </a:rPr>
              <a:t>Nechal dovézt nové vinné odrůdy, ovocné stromy a nové druhy ry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ECENÁ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ako mecenáš umění inspiroval vznik řady významných uměleckých dě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apříklad v kapli svatého Kříže na Karlštejně vzniklo díky jeho podpoře129 obrazů Mistra Theodori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ástupný symbol pro obsah 6" descr=""/>
          <p:cNvPicPr/>
          <p:nvPr/>
        </p:nvPicPr>
        <p:blipFill>
          <a:blip r:embed="rId1"/>
          <a:stretch/>
        </p:blipFill>
        <p:spPr>
          <a:xfrm>
            <a:off x="825480" y="2046240"/>
            <a:ext cx="33019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STÁTNÍ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ástupný symbol pro obsah 4" descr=""/>
          <p:cNvPicPr/>
          <p:nvPr/>
        </p:nvPicPr>
        <p:blipFill>
          <a:blip r:embed="rId1"/>
          <a:stretch/>
        </p:blipFill>
        <p:spPr>
          <a:xfrm>
            <a:off x="457200" y="2227320"/>
            <a:ext cx="4038480" cy="3271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vytvořil soustátí Země Koruny české (Čechy, Morava, Slezsko, Lužice a zahraniční léna české koruny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Nechal zhotovit korunovační klenoty a korunovační řá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ydal listinu Zlatou bulu Karla IV. jako ústavu Svaté říše římské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0:19:43Z</dcterms:modified>
  <cp:revision>46</cp:revision>
  <dc:subject/>
  <dc:title>Prezentace aplikace PowerPoint</dc:title>
</cp:coreProperties>
</file>